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5A99-9890-410F-A406-8D7A4D3C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F8FD-5438-48B2-974D-75BA7547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908A-D275-44D0-A72A-4DE07B7A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AB5B-C6BE-4274-884E-47DA9E45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1438-FABF-49C9-ABC1-07309D45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CD56-0C7E-43AB-A660-5174415A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94D5-DFD2-411D-B979-8DA66FF1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9F20-9F23-41B5-945A-109FCCFF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5E05-46ED-4861-B526-09A9BB98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82A5-CA15-43EF-84F8-903AAD52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6ACD-E729-4889-9D8C-4DBF0341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239-B1E5-439D-8F73-5CC30058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85FC-2F9C-4331-B444-788827C2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18F7-F794-43FC-9466-D182A11E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7248-0529-46D3-B829-00C55F53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AEEB-D4DE-4117-A44F-103B5AD9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591B-DF08-4FF3-8D15-D83CD1FD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B8CB-D6B1-4E1B-B127-61247F9D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CE9-CF48-428F-94CF-0D80A4F7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3878-2C0F-4920-A276-52DEE6CB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E127-F6F3-47AD-8676-D26C5B44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B47E-DAE4-466D-BCF1-038BBE09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8C0-6A5D-4541-9CDE-4E9C9D4C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4CAF-B1F6-4A38-BB27-8AC3F4FE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solidFill>
            <a:srgbClr val="357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8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764F-46C8-4F19-99F9-5605B2C27DB0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95280" y="659772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F62C-99DA-4D52-AA30-99750900FFFD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68720" y="6580080"/>
            <a:ext cx="52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99ff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cc99ff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cc99ff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cc99ff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0:40Z</dcterms:modified>
  <cp:revision>56</cp:revision>
  <dc:subject/>
  <dc:title>幻灯片 1</dc:title>
</cp:coreProperties>
</file>